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04185-DCF1-478A-AEE3-3CF44494B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76F8E-F063-4FD1-8BF2-F1036E1AB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62002-33E6-42EB-9BB4-12432C650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38310-B22F-4FA9-8AC2-6D3E38D25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97AAD-ECA4-4480-B546-D9ED3B45A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78220-B85B-4B27-8B8C-6BF729BC3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D5B6E-25A7-4F8B-8B39-5A90D821D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81D0E-2352-47C9-BE11-4639AED28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39F30-76DA-49DB-AA87-E40BF2FA9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04D03-DED9-42FF-BE7C-71C09ED87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22A43-5E00-47EC-AEC3-A43EC05DC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97B79-9975-42D8-885F-7FE1D0D67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BD602-5550-4A83-86FB-3DE2D89ED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FF83-0AA2-4539-90E6-AEBC8C0699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Sarah Cove</cp:lastModifiedBy>
  <dcterms:modified xsi:type="dcterms:W3CDTF">2008-04-30T23:27:59Z</dcterms:modified>
  <cp:revision>119</cp:revision>
  <dc:subject/>
  <dc:title>Wikispaces for Teachers A guide to using them in your classroom</dc:title>
</cp:coreProperties>
</file>